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8975-916E-46DC-9FE9-EB55007A8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95D1-6110-491D-A6A2-B77E83812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6576-0427-4C44-8770-936B12EE3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C0BE-6921-4E74-A894-1D6386D85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1E1A-8BF7-4D74-868C-36FB8256A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633D-DE73-45BD-ABB6-F8E4362ED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9886-5BD7-4A96-AE00-CA0541B55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F74B-AE93-4C74-8C7E-2082EDB90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B91F-B663-4A20-BB0C-80BEADFBE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AF90-1EDD-40E6-AC32-CB0792F01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A1EE-1C59-44BB-BDA8-FBB62370E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02F2-9F8F-4642-956E-6552753BD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5395E-B0D2-48A3-9CA2-62D717A44C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219320" y="1600200"/>
            <a:ext cx="6933960" cy="113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етодика и технологии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990720" y="2895480"/>
            <a:ext cx="7238880" cy="10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аботы социального педагог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14600" y="228600"/>
            <a:ext cx="4419720" cy="838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ТРУКТУРА ОБЩ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ЦИАЛЬНО-ПЕДАГОГИЧЕС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ЕХН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52280" y="1219320"/>
            <a:ext cx="3124440" cy="167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Диагностико-прогностическ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тап диагностики объекта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пределения е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циально-педагогически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блем, построения прогноз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ероятного развития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спитания, изменения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52280" y="3048120"/>
            <a:ext cx="2895840" cy="2133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Этап выбора (разработки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оптимальной технолог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пределение цели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бор технологий СП работ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 клиентом; индивидуализацию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меющейся технологии с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етом ситуации,разработк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овой,индивидуальн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ехнолог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124080" y="4572000"/>
            <a:ext cx="2667240" cy="2057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Этап непосредственн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подготовк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 реализации выбранн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ехнологии, выявле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атериальных, технических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рганизационных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етодических аспек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248520" y="1219320"/>
            <a:ext cx="2743200" cy="167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Экспертно-оценоч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ценка результат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еализации социально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едагогической технолог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943600" y="3048120"/>
            <a:ext cx="3048120" cy="2057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Реализацион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этап непосредственн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еятель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3352680" y="1066680"/>
            <a:ext cx="152424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3123720" y="1066680"/>
            <a:ext cx="1752840" cy="2971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4571640" y="1066680"/>
            <a:ext cx="304920" cy="3429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876920" y="1066680"/>
            <a:ext cx="990360" cy="2743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76920" y="1066680"/>
            <a:ext cx="129528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ТРУКТУРА ЧАСТНЫ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ФУНКЦИОНАЛЬНЫХ) СОЦИАЛЬНО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ЕДАГОГИЧЕСКИХ ТЕХНОЛОГ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752480" y="152280"/>
            <a:ext cx="5791320" cy="609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ТРУКТУРА ДИАГНОСТИКО-ПРОГНОСТИЧЕС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ЕХН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" y="1295280"/>
            <a:ext cx="8229600" cy="1905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Диагностика предусматривает выявл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индивидуальных отклонений в развитии и самореализации человека и возникших 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вязи с ними социальных пробле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состояния здоровь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индивидуальных особенностей, возможностей человека, его позитивного потенциал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особенностей позиции человека, его отношения к саморазвитию, самосовершенствованию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условий сред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определение социально-педагогических возможностей среды жизнедеятельности клиен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7200" y="3809880"/>
            <a:ext cx="8229600" cy="2057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Прогнозирова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предметом которого выступают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направленность и интенсивность индивидуального развития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оррекция развития и воспитания человека, социальн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оспитания перевоспитания, исправления, педагогической реабилитации, адаптаци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озможности человека в целостном развитии либо по определённым направления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озможная зона ближайшего развития, воспитания объекта в интересующ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оциального педагога област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г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озможности создания оптимальных условий, обеспечивающих реализацию возможност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оны ближайшего развития, воспит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648320" y="7621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" y="1066680"/>
            <a:ext cx="8610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28600" y="1066680"/>
            <a:ext cx="0" cy="3733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28600" y="19810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28600" y="48006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839080" y="1066680"/>
            <a:ext cx="0" cy="3657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686800" y="190512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686800" y="472428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981080" y="228600"/>
            <a:ext cx="5181840" cy="1143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ТРУКТУРА ДЕЯТЕЛЬ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 ВЫБОРУ ОПТИМАЛЬ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ЦИАЛЬНО-ПЕДАГОГИЧЕС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ЕХН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" y="1752480"/>
            <a:ext cx="3200400" cy="16765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Анализ исходных материалов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еобходимых для выбор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аиболее оптимальной технолог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Усваиваются индивидуальны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собенности, возможности объект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смысливаются его социально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едагогические проблемы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04920" y="3581280"/>
            <a:ext cx="3429000" cy="1067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Выводы по результатам анализ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информации и определение цел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 которой следует стремиться 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оциально-педагогической работе с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лиентом в данной ситу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33520" y="4800600"/>
            <a:ext cx="4038480" cy="1219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Социально-педагогическое моделирова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эмпирическое создание образ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целенаправленной социально-педагогическ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еятельности, отражающей определённую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оциально-педагогическую технолог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48320" y="4648320"/>
            <a:ext cx="3962160" cy="1981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Выбор социально-педагогической(целевой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технолог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на основе предшествующе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пыта или вновь выявленных и обоснован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утей достижения определенной социально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едагогической цели. Для каждой социально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едагогической проблемы может быт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есколько технологий. Создание банк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ехнологий по различным социально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едагогическим проблема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486400" y="3809880"/>
            <a:ext cx="342900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Анализ соответствия результат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моделирования и выбранн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социально-педагогической технолог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791320" y="2666880"/>
            <a:ext cx="3200400" cy="1067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ринятие решени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– подэтап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зволяющий на основе анализ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делать вывод: соответствуе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бранная целевая технолог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итуации или не соответствует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3504960" y="1371600"/>
            <a:ext cx="114300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3581280" y="1371600"/>
            <a:ext cx="1067040" cy="2133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3885840" y="1371600"/>
            <a:ext cx="762120" cy="3352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648320" y="1371600"/>
            <a:ext cx="380880" cy="3200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648320" y="1371600"/>
            <a:ext cx="990360" cy="2362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648320" y="1371600"/>
            <a:ext cx="1066680" cy="1371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715000" y="1447920"/>
            <a:ext cx="3276720" cy="1066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Выбор оптимального вариант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(способа) реализаци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социально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дагогической технологии – подэта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дготовки к практическ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ятельност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648320" y="1371600"/>
            <a:ext cx="99036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362320" y="228600"/>
            <a:ext cx="4647960" cy="838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ТРУКТУРА НЕПОСРЕДСТВЕН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ДГОТОВКИ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ЕАЛИЗАЦИИ ЦЕЛЕВОЙ ТЕХН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4267080"/>
            <a:ext cx="350532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Анализ информации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ражающ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требности подготовки к практическ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ализации технологи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содержание технологии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тодики ее реализации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иагностико-прогностическ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анные;условия реализаци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бственные возмож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циального педагог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80880" y="1295280"/>
            <a:ext cx="3581640" cy="1219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ыводы по результата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нализа, объема и содержа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атериальных, технических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рганизационных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етодических пробл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2819520"/>
            <a:ext cx="3581640" cy="1066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актическая деятельност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 решению выявлен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атериальных, технических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рганизационных, методических пробл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562720" y="1295280"/>
            <a:ext cx="3352680" cy="8384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пробация социально-педагогическ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ехнологии или ее элемен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562720" y="2590920"/>
            <a:ext cx="3352680" cy="1066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ланирование реализационн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еятельности, разработка график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еализации целевой технологии п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ремени, месту и видам занят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62720" y="4191120"/>
            <a:ext cx="3352680" cy="1066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становка задач исполнителя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 организации деятель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724280" y="1066680"/>
            <a:ext cx="0" cy="4114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3962520" y="5181480"/>
            <a:ext cx="761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724280" y="441972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3962520" y="3581280"/>
            <a:ext cx="761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724280" y="289548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3962520" y="2057400"/>
            <a:ext cx="761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724280" y="152388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286000" y="228600"/>
            <a:ext cx="4495680" cy="914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ТРУКТУРА РЕАЛИЗАЦИИ ЦЕЛЕВ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ЦИАЛЬНО-ПЕДАГОГИЧЕС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ЕХН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371600" y="1143000"/>
            <a:ext cx="617220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епосредственная практическая деятельность по реализации целев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оциально-педагогической технолог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52280" y="2590920"/>
            <a:ext cx="3124440" cy="1828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даптация 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оциально - педагогическ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еятельности и субъект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 объекта, налажива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едагогическ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заимодейств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ежду субъектом и объект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905120" y="4952880"/>
            <a:ext cx="4800600" cy="1447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ключение объекта в процессы саморазвития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амовоспитания. Реализационная деятельнос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осит индивидуализированный характ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638680" y="2590920"/>
            <a:ext cx="3200400" cy="1447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ценка результа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3352680" y="1600200"/>
            <a:ext cx="1067040" cy="1600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419720" y="1600200"/>
            <a:ext cx="0" cy="3200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419720" y="1600200"/>
            <a:ext cx="11430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209680" y="380880"/>
            <a:ext cx="5029200" cy="914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СТРУКТУРА ЭКСПЕРТНО-ОЦЕНОЧ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СОЦИАЛЬНО-ПЕДАГОГИЧЕС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ТЕХН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80880" y="3048120"/>
            <a:ext cx="3505320" cy="1447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ОЦЕНКА ЭТО КАЧЕСТВЕН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КОЛИЧЕСТВЕН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ХАРАКТЕРИСТИ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КАКОГО-ЛИБО ДЕЙ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486400" y="3048120"/>
            <a:ext cx="3352680" cy="1447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ЭКСПЕРТНАЯ ОЦЕН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(ЭКСПЕРТИЗА)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ЭТО ОЦЕНКА ЯВЛ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О ЭТАЛОН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(ЭКПЕРТНОМУ ОБРАЗЦ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2057400" y="1295280"/>
            <a:ext cx="2666880" cy="167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1295280"/>
            <a:ext cx="2362320" cy="167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371600" y="2209680"/>
            <a:ext cx="6705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ОЦИАЛЬНЫЙ ПЕДАГОГ В ОБРАЗОВАТЕЛЬНОМ УЧРЕЖД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828800" y="228600"/>
            <a:ext cx="5638680" cy="762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ДАЧИ СОЦИАЛЬНО-ПЕДАГОГИЧЕСК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" y="1981080"/>
            <a:ext cx="8229600" cy="37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здание условий для социального воспитания и развития детей в досугово-творческой деятельности по месту проживания семей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здание комфортной социально-образовательной среды в микросоциум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мощь семье в индивидуальном развитии и становлении детской одареннос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ррекционная работа с семьями группы риска, семьями с проблемными деть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циально-педагогическая поддержка детей со специфическими нуждами (сирот, инвалидов, детей с ослабленным физическим или психическим здоровьем и др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228240" y="53352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28600" y="533520"/>
            <a:ext cx="0" cy="4800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28600" y="53341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28600" y="46483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28600" y="38862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28600" y="31240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28600" y="21337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990720" y="228600"/>
            <a:ext cx="7162560" cy="609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лгоритм деятельности начинающего социального педаго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80880" y="1676520"/>
            <a:ext cx="2514600" cy="15238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зучение норматив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окумен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28600" y="3429000"/>
            <a:ext cx="2743200" cy="14479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епосредственн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знакомле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 организаци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28600" y="5029200"/>
            <a:ext cx="2666880" cy="1600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знакомл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 формами и метод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оциально-педагогическ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иагност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971800" y="5105520"/>
            <a:ext cx="2286000" cy="15238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зучение накопленн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эмпирического материа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334120" y="4952880"/>
            <a:ext cx="3429000" cy="1600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Участие в проведени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ндивидуальной и группов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оциально-педагогическ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аботы с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учащимися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одителями, учителям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095880" y="3276720"/>
            <a:ext cx="2819520" cy="1600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зучение положительно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пыта социально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едагогической деятель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248520" y="1371600"/>
            <a:ext cx="2743200" cy="1600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знакомление с работ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ругих специалис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2514240" y="838080"/>
            <a:ext cx="205740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743200" y="838080"/>
            <a:ext cx="1828800" cy="2819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2666880" y="838080"/>
            <a:ext cx="1905120" cy="4496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3962160" y="838080"/>
            <a:ext cx="609480" cy="4191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0" y="838080"/>
            <a:ext cx="1447920" cy="4191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0" y="838080"/>
            <a:ext cx="1905120" cy="2590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0" y="838080"/>
            <a:ext cx="220968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304920"/>
            <a:ext cx="3352680" cy="1066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ЕХН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029200" y="228600"/>
            <a:ext cx="3886200" cy="5335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овокупность методов, необходимых дл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существления процесса производс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029200" y="838080"/>
            <a:ext cx="388620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аучное описание способов производств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3886200" y="456840"/>
            <a:ext cx="10666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86200" y="762120"/>
            <a:ext cx="106668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62320" y="2209680"/>
            <a:ext cx="464796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ПРИЗНАКИ ТЕХНОЛОГ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3733920"/>
            <a:ext cx="2819160" cy="1981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азделение процесс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 взаимосвязанные этап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352680" y="3733920"/>
            <a:ext cx="2590920" cy="1981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оординированное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этапное выполн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ействий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правленных 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остиж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скомого результа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72200" y="3733920"/>
            <a:ext cx="2666880" cy="1981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днознач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ыполн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ключенных 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технологию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оцедур и опера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523880" y="2666880"/>
            <a:ext cx="320040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666880"/>
            <a:ext cx="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724280" y="2666880"/>
            <a:ext cx="297180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523880" y="304920"/>
            <a:ext cx="6172200" cy="609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СНОВНЫЕ АСПЕКТЫ ДЕЯТЕЛЬ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ЦИАЛЬНОГО ПЕДАГО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" y="2286000"/>
            <a:ext cx="3048120" cy="21337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АСТИЕ В УПРАВЛЕ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809880" y="4038480"/>
            <a:ext cx="3505320" cy="2438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АСТИЕ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СПИТАТЕЛЬН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ЦЕС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019920" y="1295280"/>
            <a:ext cx="2743200" cy="19051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АСТИЕ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РГАНИЗ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РЕД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СПИТ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Б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2895120" y="914400"/>
            <a:ext cx="1752840" cy="1600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648320" y="914400"/>
            <a:ext cx="761760" cy="3048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648320" y="914400"/>
            <a:ext cx="190476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828800" y="228600"/>
            <a:ext cx="5562720" cy="838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ЧАСТИЕ СОЦИАЛЬНОГО ПЕДАГОГ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УПРАВЛЕ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2362320"/>
            <a:ext cx="2895480" cy="4114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оведение социологических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оциально-педагогически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сследований в педагогическом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етском коллективах сред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одителе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участие в разрешени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онфлик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505320" y="2362320"/>
            <a:ext cx="2514600" cy="4114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оведение с учителям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анятий по обучению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иема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оциометрическ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онтроля за межличностн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тмосферой в класс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содействие эффективном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аспределению ролей 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оллективе учащихс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участие в работ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онсилиум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172200" y="2362320"/>
            <a:ext cx="2514600" cy="4114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участие в работе местны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рганов власти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моуправления п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опросам социальн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азвития и реше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оциально-педагогически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обле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взаимодействие с орган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управления и учреждения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бразования, социальн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ащиты, здравоохранения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омиссиями по дела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есовершеннолетних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сотрудничество с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бщественными и други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рганизация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57200" y="1600200"/>
            <a:ext cx="2895480" cy="762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ОНСУЛЬТИРОВА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ДМИНИСТР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505320" y="1600200"/>
            <a:ext cx="2514600" cy="762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ЕТОДИЧЕСК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АБО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172200" y="1600200"/>
            <a:ext cx="2514600" cy="762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НЕШКОЛЬНО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ЗАИМОДЕЙСТВ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495680" y="10666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523880" y="129528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523880" y="12952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95680" y="12952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467480" y="12952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133720" y="228600"/>
            <a:ext cx="5029200" cy="762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ЧАСТИЕ СОЦИАЛЬНОГО ПЕДАГОГ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ВОСПИТАТЕЛЬНОМ ПРОЦЕС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" y="2133720"/>
            <a:ext cx="3200400" cy="4114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текущее наблюдение за общ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итуацией в школе, классны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оллективах, группах учащихся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а взаимоотношениями межд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учителями, учащимися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одителями и т.д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анализ и прогнозирова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онкретных проблемны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оциально-педагогических ситуац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886200" y="2133720"/>
            <a:ext cx="5105520" cy="4114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социально-педагогическая поддержка осуществляется 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трудничестве с органами местного самоуправления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зволяет извлекать несовершеннолетних из трудной ил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пасной ситуации, помещать в приют, передавать в другу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емью или интернат;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социальный контроль – позитивное влияние со сторон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школы на прилегающий к ней микрорайон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тиводействие субкультурам маргинальной ориентаци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педагогическая реабилитация -социальная поддержк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нутри учебно-воспитательного процесс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психопрофилактика направлена на выявление учащихся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школьная дезадаптация, своевременно взять их под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нтроль, принять и утвердить план реабилитацион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роприят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57200" y="1600200"/>
            <a:ext cx="3200400" cy="5335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НУТРИШКОЛЬНЫ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ОНИТОРИН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886200" y="1600200"/>
            <a:ext cx="5105520" cy="5335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ОЦИАЛЬНО-ПЕДАГОГИЧЕСКАЯ РЕАБИЛИТ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572000" y="9907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676520" y="1219320"/>
            <a:ext cx="5333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676520" y="12193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010280" y="12193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981080" y="228600"/>
            <a:ext cx="5486400" cy="609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ЧАСТИЕ С.П.  В ОРГАНИЗА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РЕДЫ ВОСПИТАНИЯ РЕБЁ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04920" y="1828800"/>
            <a:ext cx="2590560" cy="17524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провожд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ебёнка в семь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590920" y="4648320"/>
            <a:ext cx="3200400" cy="18288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бота с социаль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редой реб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715000" y="2819520"/>
            <a:ext cx="3200400" cy="18288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частие в работ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одительского комит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2742840" y="838080"/>
            <a:ext cx="1981080" cy="1371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4190760" y="838080"/>
            <a:ext cx="533160" cy="3810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724280" y="838080"/>
            <a:ext cx="2514600" cy="1905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600200" y="228600"/>
            <a:ext cx="6019920" cy="609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НКРЕТНЫЕ ВИДЫ УСЛУГ СОЦИАЛЬ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ЕДАГОГА В ОБРАЗОВАТЕЛЬНОМ УЧРЕЖДЕ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09480" y="1143000"/>
            <a:ext cx="8305920" cy="51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могает в адаптации детей при поступлении в школу, переходе из начальной в среднюю и из средней школы во взрослую жизн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едупреждает конфликты, которые по различным причинам могут возникнуть в детском коллективе, помогает разрешить конфликтную ситуацию на ранней стадии и предотвратить развитие более серьёзных проблем; помогает учащимся в формировании навыков решения проблем, управления стрессом; обучает их социальным навыкам и др.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ыступает посредником между школой и семьёй: помогает родителям и учителям понять интересы и потребности детей в образовании и найти способы их удовлетворения в школе, определить индивидуальные образовательные программы для детей, которые в этом нуждаются (например, обучение детей в домашних условиях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лужит связующим звеном между родителями и школьным коллективом, побуждает родителей принимать участие в школьной жизни, ставит в известность администрацию и коллектив школы о пожеланиях семь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могает школьникам преодолеть преграды, мешающие им посещать школу и успевать на занятия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едупреждает и снижает отрицательное влияние факторов риска на жизнь детей.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57200" y="1295280"/>
            <a:ext cx="8305920" cy="48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аствует в педсоветах, родительских собраниях и других совещаниях, посвященных школьной жизн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оводит консультации с учителями и обслуживающим персоналом школы по различным социально-педагогическим проблемам в целях содействия улучшению условий жизни учеников в школе и ее окружен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ганизует сотрудничество с учителями и другими специалистами (школьный психолог, дефектолог, врач и др.) при разработке индивидуальной стратегии и тактики помощи дезадаптированным детя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зывает помощь в оценке и анализе дисциплинарных проступков учеников 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егодняшние школьники сталкиваются со многими проблемами, которые отрицательно влияют на процесс их социального и гражданского становления. Коллектив школы должен комплексно решать проблемы ученика, в чём немаловажная роль отводится социальному педагог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" y="2286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Содержание основных функций профессиональной деятельности социального педаго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80880" y="990720"/>
            <a:ext cx="8534520" cy="54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иагностическая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остановка социально – педагогического диагноза, изучение социально-педагогического фона, выявление социально - педагогических процессов, эффекта социально – педагогической деятельности, социально – педагогическая паспортизация класса, школы и т.д.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рганизационная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организация социально – педагогической деятельности всех субъектов образовательных процессов в сферах воспитательной (исправительной, коррекционной) деятельности, профессиональной ориентации, трудоустройства и адаптации, досуга, деятельности подростковых и молодёжных объединений, подготовки к семейной жизни; осуществление взаимодействия медицинских, образовательных, культурных, спортивных, правовых учреждений, обществ и благотворительных организаций в социально-педагогической деятельнос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гностико - проектировочная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участие в прогнозировании и проектировании социально-педагогических процессов классного коллектива, развития школы, конкретного микросоциума, отдельных личностей как объектов социально-педагогической деятельнос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правленческая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участие в управлении социально – педагогическими процессами в классных коллективах, группах, школе в цело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ординационная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организация взаимодействия специалистов и служб школы по поводу оптимизации социально – педагогического эффекта образования и воспитания.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447920" y="2133720"/>
            <a:ext cx="6705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ОЦИАЛЬНО-ПЕДАГОГИЧЕСКАЯ РАБОТА С ДЕТЬМИ ГРУППЫ РИ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33520" y="304920"/>
            <a:ext cx="807696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СНОВНЫЕ КАТЕГОРИИ ДЕТЕЙ ГРУППЫ РИ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57200" y="1523880"/>
            <a:ext cx="8305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33520" y="838080"/>
            <a:ext cx="8229600" cy="20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ети с проблемами в развитии, не имеющими резко выраженной клинико-патологической характеристик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ети, оставшиеся без попечения родителей в силу разных не имеющих юридической силы обстоятельст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ети из неблагополучных, асоциальных семе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ети из семей, нуждающихся в социально-экономической и социально-психологической помощи и поддержк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33160" y="3504960"/>
            <a:ext cx="7924680" cy="27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едико-биологические (состояние здоровья, наследственные и врождённые свойства, нарушения в психическом и физическом развитии, травмы внутриутробного развития и т.д.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оциально-экономические (материальные проблемы семьи, неблагоприятный психологический климат в семье, аморальный образ жизни родителей, неприспособленность к жизни в обществе и т.д.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сихологические (неприятие себя, невротические реакции, эмоциональная неустойчивость трудности общения, взаимодействия со сверстниками и взрослым и т.д.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едагогические (несоответствие содержания программ образовательного учреждения и условий обучения детей их психофизиологическим особенностям, темпа психического развития и обучения детей; отсутствие интереса к учению, закрытость для положительного опыта, несоответствие образу школьника и т.д.)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57200" y="2971800"/>
            <a:ext cx="815328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АКТОРЫ ВОЗНИКНОВЕНИЯ ДЕТЕЙ ГРУППЫ РИ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80880" y="914400"/>
            <a:ext cx="8382240" cy="609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СТАВЛЯЮЩИЕ СОЦИАЛЬНО-ПЕДАГОГИЧЕСКОЙ РАБО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 ДЕТЬМИ ГРУППЫ РИ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57200" y="1981080"/>
            <a:ext cx="83818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явление детей этой категории в детской среде и организация работы с ни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посредственная индивидуальная или групповая работа с деть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04920" y="3276720"/>
            <a:ext cx="8381880" cy="609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ЦИАЛЬНО-ПЕДАГОГИЧЕСКИЕ ТЕХН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57200" y="4114800"/>
            <a:ext cx="8305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рганизационные социально-педагогические технолог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циально-педагогические технологии индивидуальной рабо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47920" y="228600"/>
            <a:ext cx="6095880" cy="5335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ЦИАЛЬНО-ПЕДАГОГИЧЕСКАЯ ТЕХН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1219320"/>
            <a:ext cx="2438280" cy="45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оциальная технолог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72200" y="1219320"/>
            <a:ext cx="2819520" cy="45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едагогическая технолог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1905120"/>
            <a:ext cx="380988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пределенный способ осуществле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еловеческой деятельности (В.С.Дудченко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905120"/>
            <a:ext cx="403884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оект определенной педагогическ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истемы, реализуем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а практике (В.П.Беспалько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2666880"/>
            <a:ext cx="380988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ациональное расчленение деятель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процесса) на процедуры, опер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24280" y="2666880"/>
            <a:ext cx="403884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умма научно обоснованных приём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оспитательного воздейств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а человека или групп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3429000"/>
            <a:ext cx="380988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пределенная программа для деятельност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 решению социальной проблем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24280" y="3429000"/>
            <a:ext cx="4038840" cy="762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следовательная взаимосвязанна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истема действий педагога, направленная н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ешение педагогических зада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3520" y="4191120"/>
            <a:ext cx="3809880" cy="838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Специально-подготовленная к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последовательно-реализуема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деятельность по решению социальн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проблем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724280" y="4267080"/>
            <a:ext cx="4038840" cy="762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Совокупность действий операций, процедур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инструментально обеспечивающи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получение прогнозируемого результа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5400000">
            <a:off x="4343400" y="837720"/>
            <a:ext cx="457200" cy="8839440"/>
          </a:xfrm>
          <a:custGeom>
            <a:avLst/>
            <a:gdLst>
              <a:gd name="textAreaLeft" fmla="*/ 0 w 457200"/>
              <a:gd name="textAreaRight" fmla="*/ 164880 w 457200"/>
              <a:gd name="textAreaTop" fmla="*/ 230400 h 8839440"/>
              <a:gd name="textAreaBottom" fmla="*/ 8609040 h 883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133720" y="5486400"/>
            <a:ext cx="518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СОЦИАЛЬНО-ПЕДАГОГИЧЕСКАЯ ТЕХНОЛОГ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90720" y="6400800"/>
            <a:ext cx="7315200" cy="228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аука об искусстве достижения прогнозируемой социально-педагогической цел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0" y="5791320"/>
            <a:ext cx="0" cy="533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2743200" y="762120"/>
            <a:ext cx="175248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495680" y="762120"/>
            <a:ext cx="1676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1447920"/>
            <a:ext cx="0" cy="3124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21337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4920" y="29718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37339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45720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991720" y="1447920"/>
            <a:ext cx="0" cy="3124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8762760" y="22096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8762760" y="29718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8762760" y="38098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8762760" y="45720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219320" y="228600"/>
            <a:ext cx="708660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РГАНИЗАЦИОННЫЕ СОЦИАЛЬНО-ПЕДАГОГ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ЕХН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57200" y="1600200"/>
            <a:ext cx="3200400" cy="762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Формирование бан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анных дет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 подростков группы рис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" y="2895480"/>
            <a:ext cx="3200400" cy="914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иагностика проблем личностного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оциального развития детей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дростков, попадающих в сфер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еятельности социального педагог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57200" y="4191120"/>
            <a:ext cx="3200400" cy="838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азработка и утвержд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ограмм социально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едагогической деятельности с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ебенком, группой, общность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257800" y="1600200"/>
            <a:ext cx="342900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беспечение услови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еализации програм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257800" y="2895480"/>
            <a:ext cx="3429000" cy="914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онсультирова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257800" y="4191120"/>
            <a:ext cx="3429000" cy="838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ежведомственные связ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оциального педагог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572000" y="914400"/>
            <a:ext cx="0" cy="3657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657600" y="457200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657600" y="327672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657600" y="190512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80880" y="1676520"/>
            <a:ext cx="3886200" cy="4572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Банк данных включае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ведения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 детях из семей социально-опасн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ложен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беспризорных, безнадзорных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занимающихся бродяжничеством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прошайничество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содержащихся в социально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еабилитационных центрах и социаль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иютах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употребляющих наркотические веществ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совершающих правонарушен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состоящих на учёте в комиссии по дела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есовершеннолетних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освобождённых от уголовн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тветственности в следствие акт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б амнисти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495680" y="1676520"/>
            <a:ext cx="4419720" cy="4572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оциальный педагог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изучает индивидуальные особенности ребёнка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ыявляет его интересы и потребности, трудности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облемы, конфликтные ситуации, отклонения 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ведении, определяет их причины, отслеживае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стоки возникновения конфликтных ситуаци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исследует условия и особенности отношени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икросреды жизнедеятельности ребёнк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80880" y="762120"/>
            <a:ext cx="3886200" cy="914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Формирование банка данных детей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одростков группы рис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495680" y="762120"/>
            <a:ext cx="4419720" cy="914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Диагностика проблем личностного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оциального развития детей и подростков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опадающих в сферу деятельност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оциального педагог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57200" y="1371600"/>
            <a:ext cx="3962520" cy="480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рупповые программы разрабатываются дл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шения проблем определенной групп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дростков выявленных в ходе диагности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щественные программы разрабатываютс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ля решения проблем, присущих нескольки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руппам или части школьного коллектива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включаются в общешкольную программ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Характеристики программ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целесообразность методов, форм и средст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циально-педагогической деятельности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влечения ведомств и служб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нозируемост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меряемости ожидаемых результат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57200" y="609480"/>
            <a:ext cx="3962520" cy="762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Разработка и утверждение програм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оциально-педагогической деятельност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 ребёнком, группой, общностью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648320" y="1371600"/>
            <a:ext cx="4114800" cy="480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посредничество между учащимся 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разовательном учреждении, семьёй, средой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пециалистами, ведомствами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дминистративными органам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реализация и осуществление индивидуальны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циально-педагогических програм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координация, контроль и собственное участ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реализации общественных програм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отслеживание результат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Информирует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миссию по делам несовершеннолетних 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ализации индивидуальных программ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полненных по заказу комисси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иректора школы о ходе выполне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дагогический коллектив о результата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заимодействия внутришкольных структур п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полнению програм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чальника управления образования 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зультатах взаимодействия внутришкольны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руктур по выполнению програм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648320" y="609480"/>
            <a:ext cx="4114800" cy="762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беспечение условий реализации програм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57200" y="1295280"/>
            <a:ext cx="4114800" cy="4876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рганизация консультаций для учащихся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одителей, учителей и других лиц при и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бращен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724280" y="1295280"/>
            <a:ext cx="4038840" cy="4876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Взаимодействие с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психолого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комиссией по делам несовершеннолетних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административными организациям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центрами социальной помощи семье и детя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учреждениями дополнительного образован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57200" y="457200"/>
            <a:ext cx="4114800" cy="838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онсультир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457200"/>
            <a:ext cx="3962520" cy="838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Межведомственные связ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оциального педагог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295280" y="228600"/>
            <a:ext cx="670572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ЦИАЛЬНО-ПЕДАГОГИЧЕСКИЕ ТЕХНОЛОГ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НДИВИДУАЛЬНОЙ И ГРУППОВОЙ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57200" y="2514600"/>
            <a:ext cx="4114800" cy="1981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ЦИАЛЬ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ЕДАГОГИЧЕСКАЯ ТЕХНОЛОГ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НДИВИДУАЛЬНО-ГРУППОВ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ФИЛАКТИЧЕСКОЙ РАБОТЫ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876920" y="2514600"/>
            <a:ext cx="3886200" cy="1981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КАЗАНИЕ ИНДИВИДУАЛЬ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НФИДЕНЦИАЛЬ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МОЩИ И СОПРОВОЖ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ЕТ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2209320" y="914400"/>
            <a:ext cx="2667240" cy="1447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876920" y="914400"/>
            <a:ext cx="236196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838080" y="228600"/>
            <a:ext cx="7772400" cy="990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ЦИАЛЬНО-ПЕДАГОГИЧЕСКАЯ ТЕХНОЛОГИЯ ИНДИВИДУАЛЬ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РУППОВОЙ ПРОФИЛАКТИЧЕСКОЙ РАБО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(НА ПРИМЕРЕ ХИМИЧЕСКОЙ ЗАВИСИМОСТИ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880" y="1371600"/>
            <a:ext cx="3810240" cy="914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Формирование и исследование бан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анных детей, склонных к зависим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80880" y="2438280"/>
            <a:ext cx="3810240" cy="1828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Разработка «портрета» зависимост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есовершеннолетних – конкретизац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бщих тенденций развития зависимостей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типов употребляемых веществ(алкоголь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аркотики и т.д.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опыта употребления вещест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источников приобретения вещест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мест распространения вещест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80880" y="4572000"/>
            <a:ext cx="3810240" cy="160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Исследование источников информации 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есовершеннолетних, склонных к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ависимости: родители, учителя, классны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уководитель, одноклассники, ины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952880" y="1371600"/>
            <a:ext cx="3886200" cy="2209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Разработка схем организации контакт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 детьми и родителям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установление доверительно-уважительно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она отношений с несовершеннолетними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х родителям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адекватное отношение к проблемам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озможным трудностя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мотивация позитивной возможности клиен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 преодолении зависимост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мотивация клиента на принятие помощ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952880" y="3809880"/>
            <a:ext cx="3886200" cy="762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.Консультир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952880" y="4876920"/>
            <a:ext cx="3886200" cy="1295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.Разработка программ профилактическ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аботы( подробно см.далее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572000" y="1219320"/>
            <a:ext cx="0" cy="4647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4191120" y="58672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572000" y="54100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4191120" y="388620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572000" y="42670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H="1">
            <a:off x="4191120" y="213372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72000" y="182880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143000" y="228600"/>
            <a:ext cx="708660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ЗРАБОТКА ПРОГРАММ ПРОФИЛАКТИЧЕСКОЙ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28600" y="1143000"/>
            <a:ext cx="4343400" cy="5562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РОГРАММЫ ИНДИВИДУАЛЬН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РОФИЛАКТИЧЕСКОЙ РАБОТЫ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стратег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взаимодействия с клиентом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братить внимание на позитивные сторон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личности ребёнка, учитывая которые, он начина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ешение своих пробле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помочь в осознании ответственности за выбор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тратегии поведен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содействовать в определении шагов по выход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з проблемной ситуаци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способствовать осознанию необходимост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бращения к специалистам, способным оказат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ейственную помощь (наркологу, специалиста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центров социальной, психологической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едицинской помощи и др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800600" y="1143000"/>
            <a:ext cx="4191120" cy="5562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РОГРАММЫ ГРУППОВ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РОФИЛАКТИЧЕСКОЙ РАБОТЫ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(стратег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взаимодействия с клиентами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программы должны быть направлены н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формирование устойчивого положительн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тношения клиентов к возможностя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обственного здоровья и негативн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тношения к возможностям употребле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еществ, вызывающих зависимость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формирование позитивных жизненны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установок, ценностей, опыт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ежедневное педагогическое взаимодейств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а принципы гуманной педагогик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80880" y="4800600"/>
            <a:ext cx="4038840" cy="1752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не навред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не оценива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ринимай человека таким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аков он е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облюдай конфиденциаль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облюдай меру взаимного открове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 клиентом, но сохраняй некоторую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дистанц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209680" y="685800"/>
            <a:ext cx="243864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648320" y="685800"/>
            <a:ext cx="213336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952880" y="4572000"/>
            <a:ext cx="1676520" cy="1981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Виды программ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нформационно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пагандистск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олев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гров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лов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сугов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705720" y="4572000"/>
            <a:ext cx="2209680" cy="1981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инятие ребёнка 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ачестве цели и цен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ности педагогичес-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кого процесс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декватный учё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озможностей ребён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психол.,физиол.,половых.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озрастных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219320" y="1752480"/>
            <a:ext cx="71625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ОЦИАЛЬНО-ПЕДАГОГИЧЕСКАЯ РАБОТА С СЕМЬЁ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600200" y="228600"/>
            <a:ext cx="5486400" cy="5335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ЦИАЛЬНО-ПЕДАГОГИЧЕСК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МОЩЬ СЕМЬ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28600" y="1905120"/>
            <a:ext cx="2590920" cy="609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ОБРАЗОВАТЕ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124080" y="1905120"/>
            <a:ext cx="2819520" cy="609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ПСИХОЛОГ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248520" y="1905120"/>
            <a:ext cx="2590560" cy="609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ПОСРЕДН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28600" y="3505320"/>
            <a:ext cx="121932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буч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523880" y="3505320"/>
            <a:ext cx="121932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оспит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685440" y="2514600"/>
            <a:ext cx="68580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371600" y="2514600"/>
            <a:ext cx="60948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200400" y="3505320"/>
            <a:ext cx="129528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ддерж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648320" y="3505320"/>
            <a:ext cx="129528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оррек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flipH="1">
            <a:off x="3733560" y="2514600"/>
            <a:ext cx="68580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419720" y="2514600"/>
            <a:ext cx="76176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400800" y="3429000"/>
            <a:ext cx="129528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рганиз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705720" y="3886200"/>
            <a:ext cx="152388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оордин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7086600" y="4572000"/>
            <a:ext cx="182880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нформиро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6934320" y="2514600"/>
            <a:ext cx="83808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772400" y="2514600"/>
            <a:ext cx="152280" cy="1371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772400" y="2514600"/>
            <a:ext cx="762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1295280" y="762120"/>
            <a:ext cx="320040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495680" y="762120"/>
            <a:ext cx="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495680" y="762120"/>
            <a:ext cx="320040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838080" y="4191120"/>
            <a:ext cx="1195560" cy="182376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2"/>
          <a:stretch/>
        </p:blipFill>
        <p:spPr>
          <a:xfrm>
            <a:off x="3886200" y="4267080"/>
            <a:ext cx="1163520" cy="182736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3"/>
          <a:stretch/>
        </p:blipFill>
        <p:spPr>
          <a:xfrm>
            <a:off x="7010280" y="5105520"/>
            <a:ext cx="183060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219320" y="1828800"/>
            <a:ext cx="6933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БРАЗОВАТЕЛЬНЫЙ КОМПОНЕНТ СОЦИАЛЬНО-ПЕДАГОГИЧЕСКОЙ ПОМОЩИ СЕМЬ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228600"/>
            <a:ext cx="822960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ЗАИМОСВЯЗЬ ТЕХНОЛОГИИ И МЕТОД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АКТИЧЕСКОЙ РАБОТЫ СОЦИАЛЬНОГО ПЕДАГО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3048120"/>
            <a:ext cx="3504960" cy="2286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ЕТОД-МЕТОД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257800" y="3048120"/>
            <a:ext cx="3505320" cy="2286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ЕХН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1752480" y="914400"/>
            <a:ext cx="289584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914400"/>
            <a:ext cx="228600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09880" y="380988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3809880" y="411480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914400" y="228600"/>
            <a:ext cx="7543800" cy="5335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БУЧЕНИЕ РОДИТЕЛ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ак процесс формирования их педагогической куль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066680" y="76212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Тематика педагогического электория для роди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57200" y="1143000"/>
            <a:ext cx="8229600" cy="54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оль семьи в развитии лич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ва ребенка и обязанности родител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спитательный потенциал семьи и семейная атмосфе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емейные роли и семейные отнош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емья как источник психической травм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емья с нарушенной структур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упружеские конфликты и эмоциональное состояние ребен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одительский авторитет и личный пример родител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нфликтная, аморальная и асоциальная семь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ти как безусловная ценнос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ощрения и наказания в семье. Семейная жестокос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иды нарушений семейного воспитания и влияние их на характер ребён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одительская позиция и жизненные сценарии, созданные родителя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спитание детей в семье с учетом пола и возрас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ущность самовоспитания и его организации, роль семьи в руководстве процессом самовосп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собенности воспитания детей с отклонениями в физическом и психическом развит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124080" y="304920"/>
            <a:ext cx="350532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МОЩЬ В ВОСПИТА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04920" y="1752480"/>
            <a:ext cx="4952880" cy="8384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ОНСУЛЬТИРОВАНИЕ – как содействие оптимиз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нутрисемейных отношений на основе изуче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заимодействия всех членов семь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334120" y="1752480"/>
            <a:ext cx="3657600" cy="8384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ОСПИТЫВАЮЩИЕ СИТУАЦИИ д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усиления воспитательн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отенциала семь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04920" y="1066680"/>
            <a:ext cx="4876560" cy="38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ОДИТ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5410080" y="1066680"/>
            <a:ext cx="3276720" cy="38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БЕН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04920" y="2743200"/>
            <a:ext cx="4952880" cy="3352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сновные вопрос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 какими ожиданиями пришла семья на консультацию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В чём актуальность семейной проблемы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ребенок плохо учится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Какова ситуация в семье в настоящее время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Как ранее в семье справлялись с трудностями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облемами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Как осуществляется взаимодействие в семье в связи с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озникшей проблемой? (необходимо прояснит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оисходящее на уровне поведения, мыслей, чувств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Может ли ситуация ухудшится? Что может усугубит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облему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Какие положительные стороны имеет данная проблема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334120" y="2743200"/>
            <a:ext cx="3657600" cy="3352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сновные вопрос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ак понять своих родителей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омашние обязан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Любовь в семь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бщий семейный интерес и как е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оздать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рганизация режима труда, учёб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тдыха и досуга детей в семь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 flipH="1">
            <a:off x="2742840" y="685800"/>
            <a:ext cx="213372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876920" y="685800"/>
            <a:ext cx="22860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743200" y="14479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743200" y="25909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7086600" y="14479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7086600" y="25909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990720" y="1981080"/>
            <a:ext cx="7238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СИХОЛОГИЧЕСКИЙ КОМПОНЕНТ СОЦИАЛЬНО-ПЕДАГОГИЧЕСКОЙ ПОМОЩИ СЕМ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228600"/>
            <a:ext cx="4114800" cy="609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ЦИАЛЬНО-ПЕДАГОГ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ДДЕРЖКА И КОРРЕК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838080" y="1523880"/>
            <a:ext cx="2514600" cy="9144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ДДЕРЖ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248520" y="1523880"/>
            <a:ext cx="2514600" cy="9144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РРЕК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>
            <a:off x="2285640" y="838080"/>
            <a:ext cx="251460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800600" y="838080"/>
            <a:ext cx="23623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04920" y="2971800"/>
            <a:ext cx="4343400" cy="3352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АННАЯ ДЕЯТЕЛЬНОСТЬ ОСУЩЕСТВЛЯЕТС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КОМПЛЕКС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Социальный педагог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определяет проблему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нализируя межличностные отношения семьи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ложение ребенка в семь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тношения семьи с обществ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Психолог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посредством психологических тест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 других методик выявляет те психическ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зменения каждого члена семь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оторые приводят к конфликт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Психиатр и психотерапев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проводит лече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105520" y="2971800"/>
            <a:ext cx="3809880" cy="3352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Коррекция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ежличностных отношени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оисходит когда в семье существуе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сихическое насилие над ребенком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иводящая к нарушению его нервно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сихического и физического состоя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запугивание, оскорбление ребенка, насил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ад ребенком, нарушение доверия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Цель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помочь членам семьи узнать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ак они взаимодействуют друг с другом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 затем помочь узнать, как сделать эт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заимодействия более конструктивным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057400" y="24382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543800" y="24382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676520" y="1752480"/>
            <a:ext cx="60195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СРЕДНИЧЕСКИЙ КОМПОНЕНТ СОЦИАЛЬНО-ПЕДАГОГИЧЕСКОЙ ПОМОЩИ СЕМ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514600" y="304920"/>
            <a:ext cx="411480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СРЕДНИЧЕСКИЙ КОМПОН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28600" y="1676520"/>
            <a:ext cx="2819520" cy="4572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омощь в организаци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емейного досуг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благотворительных аукцион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лубов по интереса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емейных праздников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онкурс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урсов по ведению домашне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хозяйства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«клубов знакомств»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летнего отдых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124080" y="1676520"/>
            <a:ext cx="2743200" cy="4572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омощь в координаци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направлена на активизац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различных ведомств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лужб по совместном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разрешению пробле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емьи, ребенк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ередача ребёнка н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оспитание в приёмную семью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усыновление ребён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мещение детей в прию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мещение ребенка н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нституциональное попеч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детский дом, школа-интернат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«лесная школа» и т.д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943600" y="1676520"/>
            <a:ext cx="2971800" cy="4572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омощь в информировани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направлена на обеспече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емьи информацией п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опросам социальн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защиты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опросы могу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асаться проблем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жилищного, семейно-брачного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рудового, гражданского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енсионного законодательств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ав детей, женщин, инвалид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нутрисемейной организации;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H="1">
            <a:off x="1447920" y="685800"/>
            <a:ext cx="320040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648320" y="685800"/>
            <a:ext cx="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648320" y="685800"/>
            <a:ext cx="274320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752480" y="228600"/>
            <a:ext cx="5562720" cy="609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ОРМЫ СОЦИАЛЬНО-ПЕДАГОГИЧЕС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МОЩ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1143000" y="1447920"/>
            <a:ext cx="2514600" cy="5331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РАТКОСРОЧ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5638680" y="1447920"/>
            <a:ext cx="2514600" cy="5331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ДОЛГОСРОЧ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28600" y="2590920"/>
            <a:ext cx="251460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РИЗИСИНТЕРВЕНТ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838080" y="3505320"/>
            <a:ext cx="3353040" cy="5331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РОБЛЕМНО-ОРИЕНТИРОВАН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flipH="1">
            <a:off x="1447560" y="1981080"/>
            <a:ext cx="99036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438280" y="1981080"/>
            <a:ext cx="1143000" cy="1447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715000" y="2590920"/>
            <a:ext cx="2438280" cy="5331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СИХО-СОЦИАЛЬ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934320" y="19810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 flipH="1">
            <a:off x="2437920" y="838080"/>
            <a:ext cx="205740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495680" y="838080"/>
            <a:ext cx="243864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лительность 6-8 недель, около 12 контакт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казание помощи в непосредственно кризисной ситуа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МЕ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при рождении  ребенка с патологией помощь считается успешной есл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 понижена тревожность, психологический дискомфор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формируется новое понимание проблемы и развиваются адаптив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еак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БЛЕМНО-ОРИЕНТИРОВАННАЯ МОДЕЛЬ ВЗАИМОДЕЙ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аправлена  на решение конкретных практических задач, заявленных клиент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 Диагностика-концентрация внимания на сути проблемы, ситуации породившей проблем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 Определяются препятствия для решения проблем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 Отбираются средства, способствующие преодоление препятств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ЕТОДЫ И ФОРМЫ РАБОТ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контракт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патронаж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консультац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тренинг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905120" y="304920"/>
            <a:ext cx="5181480" cy="5331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РИЗИСИНТЕРВЕНТНАЯ МОДЕЛЬ ВЗАИМОДЕЙСТВ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НТРАКТ КАК МЕТОД ПРОБЛЕМНО-ОРИЕНТИРОВАННОЙ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ОД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КЛЮЧАЕ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писание ключевой проблемы, которую обе стороны надеются разреши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Цель и задачи работы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Процедуры и методики, которые будут использован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Требования к клиенту и специалист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Временные рамки совместной деятельности и действия в случае нарушения договор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ОГЛАШЕНИЕ НОСИТ НЕ ПРАВОВЫЕ, А МОРАЛЬНЫЕ ОБЯЗАТЕЛЬСТВА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ИМУЩЕТВА КОНТРАКТ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побуждает семью к активност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вовлекает в процесс принятия решени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позволяет более глубоко осознать проблему и планировать деятельность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облегчает подведение итог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ОРМЫ КОНТРАКТОВ: между социальным педагогом и семьей,соц. пед и  учреждение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ГРАНИЧЕНИЯ КОНТРАК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индивидуальные осбенности клиентов:скрытность,замкнутость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сжатость срок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недостаточный профессиализм( например,не удается достичь понимания с семьей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СИХОСОЦИАЛЬНАЯ МОД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ЦЕЛЬ РАБОТЫ:  равновесие между внутренней психической жизнь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еловека и межсистемными отношения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ДИАГНОСТИКА:   -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ализ настоящего и прошлого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  поощрение к рассказу о чувствах, мыслях клиент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  стремление к взаимопониман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ДАЧИ РАБОТЫ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  Изменять клиента, семейную систему,адаптируя ее к выполнению своей специфическ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ункции (реабилитация ребенка – инвалида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. Изменять ситуацию-  другие системы, оказывающие влияние на семью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.  Воздействовать и на то и на другое одновременно.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133720" y="228600"/>
            <a:ext cx="4952880" cy="5335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ЕТОД-МЕТОД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990720"/>
            <a:ext cx="853416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тод – путь (способ) решения определенной проблемы человека, групп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убъективный уровень 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уславливает субъектность примен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62520" y="1905120"/>
            <a:ext cx="609480" cy="609480"/>
          </a:xfrm>
          <a:prstGeom prst="ellipse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038480" y="2514600"/>
            <a:ext cx="457200" cy="914400"/>
          </a:xfrm>
          <a:prstGeom prst="ellipse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4114800" y="3429000"/>
            <a:ext cx="7632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343400" y="3429000"/>
            <a:ext cx="7632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 flipV="1">
            <a:off x="3733920" y="2437920"/>
            <a:ext cx="30456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495680" y="2437920"/>
            <a:ext cx="22860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038480" y="3886200"/>
            <a:ext cx="15264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343400" y="3886200"/>
            <a:ext cx="15228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114800" y="2057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2057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267080" y="21337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0515600">
            <a:off x="4040640" y="1982520"/>
            <a:ext cx="455400" cy="453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650" y="2706"/>
                </a:moveTo>
                <a:arcTo wR="10800" hR="10800" stAng="-7887266" swAng="5235543"/>
                <a:lnTo>
                  <a:pt x="10800" y="10800"/>
                </a:lnTo>
                <a:close/>
              </a:path>
              <a:path fill="none" w="21600" h="21600">
                <a:moveTo>
                  <a:pt x="3650" y="2706"/>
                </a:moveTo>
                <a:arcTo wR="10800" hR="10800" stAng="-7887266" swAng="5235543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4572000" y="220968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67080" y="2819520"/>
            <a:ext cx="1905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19920" y="2057400"/>
            <a:ext cx="281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нешние методы воздейств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248520" y="2362320"/>
            <a:ext cx="2895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нутренние методы          самостоятельная работа над соб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077320" y="251460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495680" y="3048120"/>
            <a:ext cx="190512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4419360" y="3200400"/>
            <a:ext cx="190476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324480" y="3124080"/>
            <a:ext cx="2438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заимодействие специалиста и самого человек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124080"/>
            <a:ext cx="304920" cy="762120"/>
          </a:xfrm>
          <a:custGeom>
            <a:avLst/>
            <a:gdLst>
              <a:gd name="textAreaLeft" fmla="*/ 0 w 304920"/>
              <a:gd name="textAreaRight" fmla="*/ 110160 w 3049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4038480"/>
            <a:ext cx="83055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функциональный уровен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– это методы которые включают объект клиента в определенные действия. Это методы воздействия на сознание, чувства человека; методы организации деятельности, методы стилизирования действий, методы самоорганиза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0880" y="4802040"/>
            <a:ext cx="8382240" cy="18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редметный уровень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способ реализации метода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группы методов действий (упражнение, тренировка, игра и т.д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группы методов воздействия – методы убеждения, информационные мето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группы методов организации деятель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группы методов стимулирования (сдерживания) – методы поощрения, методы принуждения, методы контрол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АТРОНАЖ КАК ФОРМА РАБОТЫ С СЕМЬ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АТРОНАЖ (покровительство)-  подотчетная профессиональная деятельность, которая по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ляет клиентам( индивидам,семьям )решать личные, индивидуальные, ситуатив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руд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СЛУГИ ПАТРОНАЖ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дицинские                                                    Образователь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Хозяйственно-бытовые                                       Психологическ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НЦИПЫ:      -самоопределения клиент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добровольности принятия помощ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конфиденциаль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ЦЕЛ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 Диагностические- знакомство с условиями жизни, выявление факторов риска ,пробле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. Контрольные- оценка состояния семьи и ребенка; анализ хода реабилитацион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роприятий;выполнение рекомендац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. Адаптационно- реабилитационные – оказание конкретной образовательной, психологической и др. помощ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собое внимание следует уделять семье имеющей детей 7-8 лет; 14-15 лет;17-18 лет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СУЛЬТАЦИЯ В РАБОТЕ С СЕМЬ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ОНСУЛЬТАЦИЯ – форма взаимодействия между двумя или несколькими людьми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 ходе которого специальные знания консультанта используются для оказания помощи консультируемому в решении пробле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АДАЧИ ( с помощью специально организованного процесса общения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 Актуализировать внутренние ресурсы семь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 Повысить  реабилитационную культуру семь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 Способствовать коррекции внутрисемейных отношен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ИНЦИПЫ ОБЩЕН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паритетные начал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открытость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уважени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стремление понять собеседник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эмоциональная поддержка собеседник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СИХОЛОГИЧЕСКИЙ ТРЕНИНГ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ТРЕНИНГ—тренировка.           Сочетание приемов индивидуальной и групповой работы, способствующих формированию новых психологических уме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ренинг может включать: упражнения,дискуссии, ролевая игра, приемы арт- терапии,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олевая игра,просмотр видео фильм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 Овладение психологическими знания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. Формирование умений и навыков в сфере общ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. Коррекция, формирование и развитие установок необходимых для успешного общ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. Развитие способности к адекватному и полному познанию себя и других люд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5. Коррекция и развитие системы отношений лич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НЦИПЫ:  активности участников, исследовательской позиции, объективации поведения, партнерского общения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ИМЕР:  тренинг перцептивны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–вид социально-  психологического тренинга направлен н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) развитие способности адекватного и полного познания себ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) развитие способности понимания других людей и отношени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) побуждение человека к переосмыслению сложившихся представлений о себе и 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ругих людях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) развитие стремления к совершенствованию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ходе занятия участники получают информацию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о том, как они выглядят в глазах других люде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о том, как их действия и поступки воспринимаются другими.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ЦИАЛЬНО-ПЕДАГОГИЧЕСКИЕ ТЕХНОЛОГИИ РАБОТЫ С СЕМЬЕЙ, ВОСПИТЫВАЮЩЕЙ РЕБЕНКА С ОГРАНИЧЕННЫМИ ВОЗМОЖНОСТ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сновные  подходы в отношении людей с ограниченными возможностями связано с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аким явлением как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интеграция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НТЕГРАЦИЯ исключает социальную изолированность индивида и предполагает е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ключенность во все виды и формы социальной жизни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АК 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Через создание реабилитацион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Центров                                                               усилие медиков, психологов, социаль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аботников, социальных педагог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ЕДУЩЕЕ МЕСТО отводится СОЦИАЛЬНО-ПЕДАГОГИЧЕСКОЙ ДЕЯТЕЛЬ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ЦЕЛЬ: помочь семье справиться с задачами воспитания, развития ребенка с ограничен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и возможностями,  способствовать оптимальному функционированию ,мобилизовать ресурсы семь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ОЦИАЛЬНЫЙ ПЕДАГОГ способствует повышению СОЦИАЛЬНО – РОЛЕВ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ДАПТИРОВАННОСТИ СЕМЬИ.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ЦИАЛЬНО-РОЛЕВАЯ АДАПТИРОВАННОСТЬ СЕМЬ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КАЗАТЕЛ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.Отношение к ребенку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ее внутренние ресурсы в процессе реабилитации ребенк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) конструктивное- поиск путей компенсации имеющихся нарушений, развит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пособностей ребенка, терпение и поддержка в любом начинани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) деструктивное- игнорирование патологии ребенка или акцентуация на не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структивное отношение к ребенку может выражаться в отрицательном к нему отношен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. Реабилитационная активность семьи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усилие членов семьи направленное н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) поиск источников медицинской помощ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) активность педагогических усилий, направленная на поиск компенсатор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зможностей ребенка (овладение развивающими и коррекционными методиками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) собственно социальная активность семьи (поиск источников материальной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ральной поддержки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. Реабилитационная культура семьи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система ценностей,знаний,навыков,помогающ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шать реабилитационные задач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РУКТУРА  РЕАБИЛИТАЦИОННОЙ  КУЛЬТУРЫ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52280" y="762120"/>
            <a:ext cx="2514600" cy="57909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КСИОЛОГИЧЕСК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ценностны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Философия независим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противовес иждивенческ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зиции)-независимая жиз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сихологическая ориента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принятие ответствен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себя (не отказываясь от п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щи других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. Идеи компенсаторного ра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ития Л.С.Выготского –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лаживание социаль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вязей с жизнью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666880" y="762120"/>
            <a:ext cx="2667240" cy="57909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ГНИТИВ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знаниевы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5334120" y="762120"/>
            <a:ext cx="3657600" cy="57909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1066680" y="304920"/>
            <a:ext cx="7315200" cy="838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ЦИАЛЬНО-ПЕДАГОГИЧЕСКИЕ ТЕХНОЛОГ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ФЕССИОНАЛЬНОЙ ОРИЕНТАЦИИ СТАРШЕКЛАСС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066680" y="1447920"/>
            <a:ext cx="723924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мощь в профессиональном самоопределении старшеклассник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7010280" y="1828800"/>
            <a:ext cx="1295640" cy="12193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УБЪЕК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143000" y="1905120"/>
            <a:ext cx="1371600" cy="1295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ЪЕ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2514600" y="1828800"/>
            <a:ext cx="236232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876920" y="1828800"/>
            <a:ext cx="213336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28600" y="3276720"/>
            <a:ext cx="198108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учащиес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офильного клас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2362320" y="3429000"/>
            <a:ext cx="129528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сихоло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809880" y="3276720"/>
            <a:ext cx="160020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оциаль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едаго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486400" y="3352680"/>
            <a:ext cx="1295280" cy="38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учи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6934320" y="3352680"/>
            <a:ext cx="1218960" cy="38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одител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 flipH="1">
            <a:off x="1066680" y="2895480"/>
            <a:ext cx="15264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flipH="1">
            <a:off x="2285640" y="2438280"/>
            <a:ext cx="4724280" cy="83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 flipH="1">
            <a:off x="3505320" y="2438280"/>
            <a:ext cx="350496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 flipH="1">
            <a:off x="4876920" y="2438280"/>
            <a:ext cx="213336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6400440" y="2438280"/>
            <a:ext cx="609480" cy="83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7010280" y="2514600"/>
            <a:ext cx="15264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114800" y="4038480"/>
            <a:ext cx="1219320" cy="228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мето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048120" y="3733920"/>
            <a:ext cx="15238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4800600" y="3733920"/>
            <a:ext cx="144792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4724280" y="37339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04920" y="4800600"/>
            <a:ext cx="1295280" cy="228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ловес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057400" y="4876920"/>
            <a:ext cx="1219320" cy="228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агляд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838080" y="4343400"/>
            <a:ext cx="213372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едагогическ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 flipH="1">
            <a:off x="2209680" y="4114800"/>
            <a:ext cx="190512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 flipH="1">
            <a:off x="914400" y="4648320"/>
            <a:ext cx="914400" cy="75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828800" y="4648320"/>
            <a:ext cx="8380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5562720" y="4343400"/>
            <a:ext cx="312408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оциально-психологическ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334120" y="4114800"/>
            <a:ext cx="17524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228600" y="5257800"/>
            <a:ext cx="4419720" cy="1447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формирования сознания (беседа, лекция, пример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организации деятельности и формирова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пыта общественного поведе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приучение упражнения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стимулирования поведе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соревнование, наказание, поощрение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4876920" y="5257800"/>
            <a:ext cx="4038480" cy="1447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социально-психологическая диагност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методы воздействия( коррекции и терапи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отивирования и управления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бучения и развит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онструирования и творчеств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0948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ДЕРЖАНИЕ, ФУНКЦИИ И СРЕДСТВА ПРОФЕССИОНАЛЬНОЙ ОРИЕНТ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одержание деятельности С.П.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дача знаний, формирование специальных умений и навыков, ценностного отношения к избранной профе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Функции деятельности социального педагога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огностическая, дидактическая,организационная, посредн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Функции психолога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иагностическая,прогностическая,посредническа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Функция учителя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идактическая,прогностическа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Функции родителей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рганизационная,прогностическ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редства профессиональной ориента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пространственно- временные ресурс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программно-методическое обеспече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нормативно-правовая ба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материальные ресурс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57200" y="380880"/>
            <a:ext cx="822960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ОДЕЛЬ СПД В ПРОФЕССИОНАЛЬНОМ САМООПРЕДЕЛЕ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52280" y="1066680"/>
            <a:ext cx="2895840" cy="51055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РАЗОВАТЕЛЬ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учение + воспитание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Социальные  зна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о профессии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фессиональной среде,общ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ия в ней, психологически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собенностях профессионал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.Специальные умения (комм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икативные, организаторские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алитические, прогностическ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.Специальные  навыки (беско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ликтного общения ,рефлекси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амоанализа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.Ценностное отношение к пр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ессии,результатам труд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1066680"/>
            <a:ext cx="3124440" cy="51055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СРЕДНИЧЕСК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Организация совместной деяте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ости учащихся, учителей, родит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е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.Координация усилий для реализ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ции профессиональной перспе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ив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.Информирование учащихся и р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ителей по вопросам выбо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фесс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ОРМ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педагогические совет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консилиум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родительские собр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6248520" y="1066680"/>
            <a:ext cx="2743200" cy="51055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СИХОЛОГИЧЕСК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Психологическая диагност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выявление индивидуаль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собенностей лич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Психологическ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освещ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Психологическо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онсультирова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АЗНАЧЕНИЕ РАБОТ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Развитие профессиональ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ажных качест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Коррекция нежелательны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228600"/>
            <a:ext cx="4191120" cy="609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ЕХН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1143000"/>
            <a:ext cx="81532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оставная часть любой педагогической технологии - мет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звание технологии иногда определяется по ведущему методу (метод – игра – игровые технологи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Техни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операции, дей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0880" y="3505320"/>
            <a:ext cx="2590920" cy="2514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Техника педагогическ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исполн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искусство педагогическо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действия социальн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педагог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приёмы использова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средства 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педагогическом акт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76720" y="3505320"/>
            <a:ext cx="2438280" cy="2514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Техника педагогическ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деятель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искусство педагогическ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деятельност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социального педагог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(обучение, воспитание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т.е. деятельность п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реализации определённ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технологии, метод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72200" y="3505320"/>
            <a:ext cx="2590920" cy="2514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Педагогическая техн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исполни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это то, что присущ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конкретному специалисту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олицетворяет его как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лич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1599840" y="2438280"/>
            <a:ext cx="167652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76720" y="2438280"/>
            <a:ext cx="114300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76720" y="2438280"/>
            <a:ext cx="419076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ЕРТИКАЛЬ СИСТЕМЫ ПРОФЕССИОНАЛЬНОЙ ОРИЕНТАЦИИ 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ОБРАЗОВАТЕЛЬНОМ УЧРЕЖДЕНИИ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1 ЭТАП -ПОДГОТОВИТЕЛЬНО-РАЗВИВАЮЩИЙ(4-8класс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2 ЭТАП -ФОРМИРОВАНИЕ ПЕРВИЧНОЙ ГОТОВНОСТИ К ВЫБОРУ ПРОФЕССИИ(8-9класс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3 ЭТАП -ФОРМИРОВАНИЕ ГОТОВНОСТИ ВЫБОРА БУДУЩЕЙ ПРОФЕССИИ И ВЫБ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(9-10класс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152280" y="304920"/>
            <a:ext cx="8229600" cy="57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ГОТОВИТЕЛЬНО-РАЗВИВАЮЩИЙ ЭТАП (4-8 класс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Цел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этапа:расширение кругозора школьников о мире професс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адач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Проведение первичных диагностических исследований, направленных на  изучение познавательных и личностных особенностей школьник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.Формирование мотивации учеников к профессиональному выбор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.Ознакомление школьников с различными видами труда и профессия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новные направления деятельност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1.Информировани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ознакомление школьников с миром профессий при помощи различ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ктивных методов профессиограм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2.Диагностика-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ознани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себя с использованием анкетирования, тестирования , заполн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рты  интересов и активные методы самопозн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ОРМИРОВАНИЕ ПЕРВИЧНОЙ ГОТОВНОСТИ К ВЫБОРУ ПРОФЕССИИ (8-9 класс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ель этапа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формирование готовности учащихся к собственному выбору професси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зненного пути с учетом склонностей, способностей, состояния здоровья и потребнос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ка тру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дачи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Предоставление старшекласникам углубленной информации о мире профессий,о спр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 на рынке труда и необходимом уровне образ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Проведение диагностических исследований, касающихся склонностей, способностей,ин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сов, профессиональной направленности и индивидуально-типологических особеннос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Оказание помощи при возникновении трудностей связанных с выбором профе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сновные направления деятельности: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1Информиров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накомство с содержанием разных професс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комство с целями,условиями,средствами труд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оставление информации о необходимых и препятствующих качествах для успеш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 выполнения различного рода работ(в т.ч.ограничения по состоянию здоровья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оставление информации о спросе на рынке труда,возможных местах трудоустройства в соответствии с социально-экономическими условиями района,город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я о необходимом уровне образования,учебных заведениях и т.п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2Диагностика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явление склонностей,способностей,интересов и профессиональрой направл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щихся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агностика индивидуально-типологических особенностей учащихся с целью опреде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ответствия  с той или иной професси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о-бытовое обследование в семье и школ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степени готовности к выбору професс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3.Консультиров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личного профессионального плана с учетом индивидуальных особенностей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есов,способностей(работа с психологом-профконсультантом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ОРМИРОВАНИЕ ГОТОВНОСТИ ВЫБОРА БУДУЩЕЙ ПРОФЕССИИ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9-11 Клас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84582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Цель этап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: оказание помощи в выборе будущей професс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Ознакомить учащихся с требованиями каждой профессии к личности профессионал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.Сформировать готовность к выбору профессии через развитие профессионально важ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чест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новные направления деятельност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1.Информирова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доставление информации о рынке труд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рганизация и проведение общеознакомительных экскурсий в вузы на предприят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дключение квалифицированных специалистов для получения информации 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зможностях получения професси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астие в организации выставок и форумов професси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здание информационно-поисковой систем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2. Диагностика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явление индивидуальных особенностей с целью определения соответствия той ил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ной профессии(с учетом личностных качеств,темперамент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дико-психолого-педагогическая экспертиз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пределение степени готовности к выбору професс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3. Консультирование по вопросам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бора профессии,учебного заведения,факультет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ормирования личного профессионального план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 поиску работы и трудоустройст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ЦИАЛЬНО-ПЕДАГОГИЧЕСКАЯ ТЕХНОЛОГИЯ:СОДЕРЖАНИЕ ПОНЯТИЯ,СТРУК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ЕХНОЛОГИЯ-совокупность операций, действий, средств применяемых в определенн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ледовательности для достижения искомого результа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ЛГОРИТМ ОБЩЕЙ СОЦИАЛЬНО-ПЕДАГОГИЧЕСКОЙ ТЕХНОЛОГ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 ЭТАП -  диагностико-прогностический - определение социально-педагогической проблемы и построение прогноза вероятностного развития изменен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. ЭТАП – выбор или разработка оптимальной технологии с учетом индивидуаль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лиента,возможности специалиста и иных условий(пример:педагогическая коррекция,педагогическая реабилитация,индивидуальное развитие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. ЭТАП – непосредственная подготовка к реализации выбранной технологии(подб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рганизационных,технических,методических и д.р.средст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. ЭТАП – реализационный –основной(коррекция, реабилитация,воспитание и т.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5. ЭТАП – экспертно-оценочный –анализ совершаемой деятельности и результатив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38280" y="228600"/>
            <a:ext cx="411480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ЛАССИФИКАЦИЯ СОЦИАЛЬ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ЕДАГОГИЧЕСКИХ ТЕХНОЛОГ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2971800"/>
            <a:ext cx="3733920" cy="25146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СОЦИАЛЬ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ЕДАГОГИЧЕСК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ТЕХН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ОБЩЕГО ТИ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952880" y="2971800"/>
            <a:ext cx="3657600" cy="25146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СОЦИАЛЬ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ЕДАГОГ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ТЕХНОЛОГ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ЧАСТНОГО ТИ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133360" y="914400"/>
            <a:ext cx="2438280" cy="1981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914400"/>
            <a:ext cx="2133720" cy="1981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209680" y="228600"/>
            <a:ext cx="495324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ЦИАЛЬНО-ПЕДАГОГИЧЕСК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ЕХНОЛОГИИ ОБЩЕГО ТИ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" y="1066680"/>
            <a:ext cx="845820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Технологии включающие полный цикл социально-педагогической работы с клиент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по субъектному применению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ориентируется на специально подготовленного специалис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по объекту примен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оциально-ориентированны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– предназначены для социально-педагогической работы с различными социальными группами: школьники, студенты, военнослужащие семь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возрастные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– социально-педагогическая работа с людьми определенного возрас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групповы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– технологии для использования в групп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индивидуально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– ориентированные – технологии индивидуального развития воспит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по месту реализаци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– используются определённые условия (центры, аудитории, лаборатории и т.д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по способу реализаци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– средства которые определяют основное своеобразие деятель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оциально-педагогические технологи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обусловленные ведущим методом практической деятельности: игры, театрализованная деятельность, тренинги туристические походы и др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оциально-педагогические технологи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построенные на определенной последовательности, взаимосвязи группы метод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авторские методик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– специальные методики, разработанные конкретным специалистом и положительно зарекомендовавшие себя на практике (М.Монтессори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66880" y="304920"/>
            <a:ext cx="403884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ЦИАЛЬНО-ПЕДАГОГ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ЕХНОЛОГИИ ЧАСТНОГО ТИ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1066680"/>
            <a:ext cx="8305920" cy="48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иагностические социально-педагогические технолог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Назначени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технологии подразделяются в зависимости от задач диагностики (на что она ориентирована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убъект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рименения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– специальная подготовка специалис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Объект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рименения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– методика диагностики обычно ориентирована на определенную область практического примен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Место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реализаци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– диагностические технологии используются, как правило, в специальных центрах, консультационных пункта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пособы реализаци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– социологические или психологические методики с использованием специальных бланков, аппаратуры, методов наблюдения, включения в определенные виды деятельности и т.д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иагностико – прогностические социально-педагогические технолог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явление и диагностирование индивидуальных особенностей клиента, прогнозирование перспектив его индивидуального, индивидуально-коррекционного, коррекционно – компенсаторного развития, воспитания. Выявление индивидуальных возможностей клиента в саморазвитии, потенциала этого развит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Пример: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социального педагога школы интересуют, в чем причины затруднений ученика в обучении и каковы возможности их преодо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ИПКРО</cp:lastModifiedBy>
  <dcterms:modified xsi:type="dcterms:W3CDTF">2010-08-24T11:57:00Z</dcterms:modified>
  <cp:revision>10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